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CC8-A520-4523-A5E7-84FA87A0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0A1-7A7F-48BF-ABFC-6DB5F4A1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427-9D67-4B00-A52B-56955FE1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1C1-F48C-4C1A-AC1D-6A4503B0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6CC5-3A74-47B4-8610-8863C94E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1DA-0D44-4513-9161-B49B1F0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C90-1E59-41B2-8A32-88E8C84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29F-314A-4B6D-91F5-D53732E5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96D7-2CCD-4DE4-96CD-A9A9452F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B9F-AAC6-4517-A71F-E44795A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62B-8E92-4E94-9429-3AD87C6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3F5-A323-4A9E-BCE9-62C14A1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F461-D413-4038-8BEF-538F3AF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9E5F-E96C-4C33-A67A-55BAF739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A79C-1971-4631-B32D-4D69DB3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762-54AF-4004-BF35-447AFD09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74A-A510-4B85-90CF-5ADA8202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910-3B17-4631-9576-B3E7AF57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6DA-CE8C-4EC2-849A-DACC9F91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B05-F678-4B84-9C18-EE2E415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40D-4185-47F4-A42E-98FC05D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8B4-E06F-4F0E-B733-6B3A583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503-F90A-4FCC-9A38-45950624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428-56CA-4854-BCA4-DD64936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C084A-609F-4541-A3EC-A98DD4E7C838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4D097-AAD5-4FE7-9C75-4BD060D81BE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357EE-E458-4744-82C1-5E0F5EE6C6B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51073-F518-4502-AD72-32288367D95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Get Started on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Rush/ Mr. Farrel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Start a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Macintosh HD:Users:Craig:Movies:Screenium:20110206-122918.mov" descr="/Users/Craig/Movies/Screenium/20110206-12291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How to Name your Wiki-World Histo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Macintosh HD:Users:Craig:Movies:Screenium:20110206-123414.mov" descr="/Users/Craig/Movies/Screenium/20110206-123414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Name your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me i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pshroder__________(your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2 in class have the same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, type wpshroderjosh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pshroderjosh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ate 1</a:t>
            </a:r>
            <a:r>
              <a:rPr b="0" lang="en-US" sz="46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page/ Invite to Jo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Macintosh HD:Users:Craig:Movies:Screenium:20110206-125822.mov" descr="/Users/Craig/Movies/Screenium/20110206-125822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pying Assignments to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Macintosh HD:Users:Craig:Movies:Screenium:20110206-130126.mov" descr="/Users/Craig/Movies/Screenium/20110206-130126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Embed a Dip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Macintosh HD:Users:Craig:Movies:Screenium:20110204-162958.mov" descr="/Users/Craig/Movies/Screenium/20110204-16295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31:23Z</dcterms:created>
  <dc:creator>Craig Rush</dc:creator>
  <dc:description/>
  <dc:language>en-US</dc:language>
  <cp:lastModifiedBy>Craig Rush</cp:lastModifiedBy>
  <dcterms:modified xsi:type="dcterms:W3CDTF">2011-02-06T18:24:02Z</dcterms:modified>
  <cp:revision>4</cp:revision>
  <dc:subject/>
  <dc:title>How to Get Started on Wiki</dc:title>
</cp:coreProperties>
</file>